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DB7-3D15-468A-9EC5-ADCBA187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5BB-4A6F-4344-BB33-5E3A4C0D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C54-8616-4A2F-8B2A-48B93A2D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FA8-60AF-45DB-9956-98950C3D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3C5A-C18A-412A-AC64-521C2D62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5314-377C-4C98-A851-E697E1CE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A34D-0786-47D4-B4B0-30CBF4B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257-3610-444A-9373-387625A0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BE6-83CF-464C-A15A-649ED0E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C4B6-588D-454E-9FB3-1330887B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5F90-3532-472D-B867-C1EDB6D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51E-B770-4E09-ABB4-8903560E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C874-2E67-4AA7-A77F-6F2B512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99D-6058-4FB6-A4B1-A7EA9D6E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1AEF-E012-44D0-9830-02BAE85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573E-8023-4B42-8889-DCDEFAFE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DCE7-F953-4831-8EFC-CBF7342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9E4-7F84-4CC4-8E3F-CD871D40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164-B729-448F-A4A8-67A38505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E76-757F-4FBA-A7E6-D49966E3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EFA-4E6F-4DFB-9F42-D4B07EA0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04F-85BE-4660-9AF7-1E046FE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80D-4D34-4452-A1D1-9D47295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455-B3F3-4A9A-9596-C5A4E6B8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BC71-AFD3-49B8-9BCD-AE8A61F0935C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63E6-1DD1-4E99-8676-167DEE85EDE4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staibuna.files.wordpress.com/2009/11/olimpiada_matematica_2008-1363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Cum ne ajută matematica să rezolvăm probleme cotidiene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Vedeţi imaginea la dimensiunea complet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205000"/>
            <a:ext cx="362268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16360" y="5734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Mirela Pop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Şc. cu cls. I-VIII Leş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ccecff"/>
                </a:solidFill>
                <a:latin typeface="Arial"/>
              </a:rPr>
              <a:t>Materiale şi resurse necesare pentru unitatea de învăţa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Aparat foto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omputer(e)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Imprimantă                    </a:t>
            </a: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Video </a:t>
            </a: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Cam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Aparat foto digital                             </a:t>
            </a: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Echipament pt. Vide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canner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onexiune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VIZIBILITATEA NUMERELOR NATURALE – UN PAS ÎN MULTIPLICAREA CUNOŞTINŢELOR MATEMATIC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8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ŞTIU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efiniţia divizibilităţ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riterii de divizibili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…………………………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VREAU SĂ ŞTIU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M ÎNVĂŢAT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232560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EZUMATUL UNITĂŢII DE ÎNVĂŢAR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În cadrul acestei unităţi de învăţare, elevii acumulează cunoştinţe despre divizibilitatea numerelor naturale, în acest mod  urmărindu-se cunoaşterea şi înţelegerea conceptelor, a terminologiei şi a procedeelor de calcul specifice. Prin dezvoltarea capacităţii de explorare, investigare, elevii vor rezolva probleme cu conţinut practic, folosind cunoştinţele din acest capito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imate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într-un limbaj matemati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up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ă parcurgerea unităţ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 sperăm că elevul va şti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utilizeze elemente de logică, de teoria mulţimilor şi de divizibilitate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distingă numere naturale prime de numere naturale compus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aplice criteriile de divizibilitate cu 2, 3, 4, 5, 9, 10,25,100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ă descompună în factori şi să calculeze c.m.m.m.c. şi c.m.m.d.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descopere modalităţi de ap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re a acestor cunoştinţe în situaţii concrete, în funcţie de experienţa de viaţă a elevil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m evalu</a:t>
            </a:r>
            <a:r>
              <a:rPr b="1" lang="ro-RO" sz="4400" spc="-1" strike="noStrike">
                <a:solidFill>
                  <a:srgbClr val="ccecff"/>
                </a:solidFill>
                <a:latin typeface="Arial"/>
              </a:rPr>
              <a:t>ă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Activităţile de evaluare din planul meu descriu  abilităţilre de gândire, vizate în contextual unităţii de învăţa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Toate activităţile mele sunt centrate pe elev, sunt continue şi furnizează informaţii, care contribuie la îmbunătăţirea  modului meu de predare şi a procesului de învăţare al elevil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valuarea poate avea loc zilnic pe baza observării perman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ecff"/>
                </a:solidFill>
                <a:latin typeface="Arial"/>
              </a:rPr>
              <a:t>Evaluarea iniţial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Verdana"/>
              </a:rPr>
              <a:t>*Evaluarea iniţială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constă în aplicarea testului iniţial. Se va realiza cu ajutorul metodei </a:t>
            </a:r>
            <a:r>
              <a:rPr b="0" i="1" lang="ro-RO" sz="3200" spc="-1" strike="noStrike">
                <a:solidFill>
                  <a:srgbClr val="ffffff"/>
                </a:solidFill>
                <a:latin typeface="Verdana"/>
              </a:rPr>
              <a:t>„Ştiu – Vreau să ştiu – Am învăţat”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pentru a identifica modul în care cunoştinţele sunt deţinute de către elevi cu privire la noţiunile de bază existente în unitatea de învăţ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Evaluarea formativ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*Evaluarea formativă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se realizează prin fişele de evaluare, diagrama KWL, fi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e de autoevaluare şi celelalte elemente precizate anteri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Evaluarea sumativ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*Evaluarea sumativă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se realizează pe baza unor teste, precum şi prin susţinerea produsului final: o prezentare a  produsului realizat în cadrul proiectului. Elevii vor folosi fisa de autoevaluare a proiectului. Aceeaşi grilă va fi folosită de profesor în evaluarea sumativă a proiectului fiecărui elev. Elevii vor folosi listele de verificare pentru site wiki şi fişa de autoevaluare rubricatie wiki.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ccecff"/>
                </a:solidFill>
                <a:latin typeface="Arial"/>
              </a:rPr>
              <a:t>Aptitudini şi capacităţ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competenţe de comunicare, competenţe de a învăţa pe tot parcursul vieţi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pacitatea de investigare a unor legături ale noţiunilor cu  mediul înconjurător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utilizare a pachetului MS OFFICE (Word, Power Point, Excel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documentarea pe INTERNET utilizând un motor de căuta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pacitatea de a publica pe un site wiki o aplicaţi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pacitatea de a accesa, edita un blo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0:41:55Z</dcterms:created>
  <dc:creator>C8</dc:creator>
  <dc:description/>
  <dc:language>en-US</dc:language>
  <cp:lastModifiedBy>Popescu Mirela</cp:lastModifiedBy>
  <dcterms:modified xsi:type="dcterms:W3CDTF">2010-09-22T20:25:52Z</dcterms:modified>
  <cp:revision>7</cp:revision>
  <dc:subject/>
  <dc:title>  Cum ne ajută matematica să rezolvăm probleme cotidiene? </dc:title>
</cp:coreProperties>
</file>